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17.jpeg" ContentType="image/jpeg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5FFF-B3C6-4CFC-ADFC-F1B303C7B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1FE1-6A8F-4808-B753-E5785BF6C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B577-FA63-43E7-9C45-B1BA41C7D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ED90-CF20-4DD8-9894-20A7FFFE1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1BE3-BCD3-4EAF-946A-DEBC7FA30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AF61-879B-487A-9A61-065B3C471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6CB8-601E-4E71-A621-73681FA71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2545-9BBB-4492-A96B-31EADFC3F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20B4-ABC4-431F-B89F-9D15BBEA7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6221-EC42-41B4-9A8F-311D435E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8EAE-5FB3-4EAF-B18D-B30DFAD69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38A4-D5A3-435F-806C-77C4E8FD7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8DA2D-2699-4489-9512-D3F35A9B255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47920" y="2133720"/>
            <a:ext cx="6191280" cy="3962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819520" y="228600"/>
            <a:ext cx="36003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el catálogo de rop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495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zmo lleva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el suet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roj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105520" y="3886200"/>
            <a:ext cx="3809880" cy="2800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ND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Anthony Navarro and Nick Gra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 Period Spanis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ciembre 18, 201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867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1981080" y="228600"/>
            <a:ext cx="5029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a ropa de invierno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43849" t="9472" r="2002" b="4183"/>
          <a:stretch/>
        </p:blipFill>
        <p:spPr>
          <a:xfrm>
            <a:off x="533520" y="2438280"/>
            <a:ext cx="3352680" cy="3733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09480" y="1143000"/>
            <a:ext cx="49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ndra lleva</a:t>
            </a:r>
            <a:r>
              <a:rPr b="1" lang="en-US" sz="1800" spc="-1" strike="noStrike">
                <a:solidFill>
                  <a:srgbClr val="00b000"/>
                </a:solidFill>
                <a:latin typeface="Arial"/>
              </a:rPr>
              <a:t> el abrig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rosa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867120" y="380880"/>
            <a:ext cx="5276880" cy="52768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089680" y="5370480"/>
            <a:ext cx="207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95680" y="525780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 perro negro lleva </a:t>
            </a:r>
            <a:r>
              <a:rPr b="1" lang="en-US" sz="1800" spc="-1" strike="noStrike">
                <a:solidFill>
                  <a:srgbClr val="00b000"/>
                </a:solidFill>
                <a:latin typeface="Arial"/>
              </a:rPr>
              <a:t>las bot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e color marr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1752480" y="685800"/>
            <a:ext cx="5715000" cy="56102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438280" y="7621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 perro de color marron lleva </a:t>
            </a:r>
            <a:r>
              <a:rPr b="1" lang="en-US" sz="1800" spc="-1" strike="noStrike">
                <a:solidFill>
                  <a:srgbClr val="00b000"/>
                </a:solidFill>
                <a:latin typeface="Arial"/>
              </a:rPr>
              <a:t>el gorr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e color marr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5"/>
          <a:srcRect l="20738" t="2081" r="0" b="0"/>
          <a:stretch/>
        </p:blipFill>
        <p:spPr>
          <a:xfrm>
            <a:off x="2819520" y="1676520"/>
            <a:ext cx="3774960" cy="35431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6"/>
          <a:srcRect l="8024" t="13513" r="6921" b="0"/>
          <a:stretch/>
        </p:blipFill>
        <p:spPr>
          <a:xfrm>
            <a:off x="3048120" y="1143000"/>
            <a:ext cx="3722400" cy="44956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14400" y="762120"/>
            <a:ext cx="2133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guel lleva </a:t>
            </a:r>
            <a:r>
              <a:rPr b="1" lang="en-US" sz="1800" spc="-1" strike="noStrike">
                <a:solidFill>
                  <a:srgbClr val="00b000"/>
                </a:solidFill>
                <a:latin typeface="Arial"/>
              </a:rPr>
              <a:t>la camisill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gri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Clothing"/>
          <p:cNvPicPr/>
          <p:nvPr/>
        </p:nvPicPr>
        <p:blipFill>
          <a:blip r:embed="rId7"/>
          <a:stretch/>
        </p:blipFill>
        <p:spPr>
          <a:xfrm>
            <a:off x="2819520" y="144792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267080" y="563868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 perro negro lleva </a:t>
            </a:r>
            <a:r>
              <a:rPr b="1" lang="en-US" sz="1800" spc="-1" strike="noStrike">
                <a:solidFill>
                  <a:srgbClr val="00b000"/>
                </a:solidFill>
                <a:latin typeface="Arial"/>
              </a:rPr>
              <a:t>el suet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rosa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670480" y="6324480"/>
            <a:ext cx="488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 perro de color marron lleva </a:t>
            </a:r>
            <a:r>
              <a:rPr b="1" lang="en-US" sz="1800" spc="-1" strike="noStrike">
                <a:solidFill>
                  <a:srgbClr val="00b000"/>
                </a:solidFill>
                <a:latin typeface="Arial"/>
              </a:rPr>
              <a:t>la bufand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j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6353 -0.6773 C 0.76128 -0.67615 0.75885 -0.67522 0.75659 -0.67406 C 0.75537 -0.6736 0.75294 -0.67245 0.75294 -0.67245 C 0.74808 -0.65972 0.74478 -0.65672 0.73888 -0.64584 C 0.73419 -0.63705 0.72933 -0.6197 0.72117 -0.616 C 0.71701 -0.60744 0.71735 -0.59981 0.71058 -0.59426 C 0.7085 -0.58084 0.71197 -0.5931 0.70468 -0.58639 C 0.69999 -0.582 0.70017 -0.57645 0.69409 -0.57367 C 0.68628 -0.56326 0.69027 -0.56581 0.6835 -0.5628 C 0.67794 -0.55285 0.6809 -0.55748 0.67187 -0.54545 C 0.67065 -0.54383 0.66822 -0.54082 0.66822 -0.54082 C 0.66683 -0.53226 0.66666 -0.53065 0.66128 -0.52509 C 0.65537 -0.51006 0.66249 -0.52486 0.65537 -0.51723 C 0.65208 -0.51376 0.64808 -0.50728 0.64478 -0.50312 C 0.63593 -0.49225 0.62864 -0.4779 0.61892 -0.46865 C 0.61753 -0.46726 0.61579 -0.4668 0.61423 -0.46564 C 0.61215 -0.46426 0.61024 -0.46287 0.60833 -0.46102 C 0.59617 -0.44899 0.58472 -0.43164 0.56944 -0.42632 C 0.56492 -0.42031 0.5611 -0.4136 0.55659 -0.40758 C 0.55294 -0.40273 0.54826 -0.39856 0.54478 -0.39347 C 0.53662 -0.38144 0.53593 -0.37682 0.52482 -0.3715 C 0.50902 -0.35137 0.53107 -0.37797 0.5177 -0.36525 C 0.51162 -0.35947 0.51319 -0.35507 0.50468 -0.35114 C 0.49947 -0.34883 0.49409 -0.3442 0.4894 -0.34027 C 0.47864 -0.33102 0.46805 -0.31644 0.45885 -0.30418 C 0.45781 -0.30279 0.45763 -0.30071 0.45659 -0.29956 C 0.43819 -0.27804 0.4618 -0.30927 0.446 -0.29007 C 0.43402 -0.27527 0.42951 -0.25861 0.41301 -0.25399 C 0.40781 -0.24982 0.40468 -0.24797 0.39895 -0.24612 C 0.39322 -0.24149 0.38697 -0.23826 0.38124 -0.23363 C 0.37534 -0.22877 0.37013 -0.22206 0.36475 -0.21628 C 0.36006 -0.21119 0.35381 -0.20911 0.34826 -0.20541 C 0.34531 -0.20333 0.34305 -0.19963 0.3401 -0.19754 C 0.33107 -0.19153 0.32065 -0.18829 0.31058 -0.18667 C 0.30381 -0.18852 0.29756 -0.18713 0.29531 -0.19592 C 0.29652 -0.19639 0.29843 -0.19893 0.29895 -0.19754 C 0.29965 -0.19592 0.29722 -0.19454 0.29652 -0.19292 C 0.296 -0.1913 0.29652 -0.18852 0.29531 -0.18806 C 0.28992 -0.18621 0.28437 -0.18713 0.27881 -0.18667 C 0.27725 -0.18343 0.27534 -0.18066 0.27412 -0.17719 C 0.27343 -0.17534 0.27412 -0.17233 0.27291 -0.17094 C 0.26978 -0.16724 0.2651 -0.16701 0.26128 -0.1647 C 0.25572 -0.15729 0.25503 -0.15406 0.24704 -0.15059 C 0.24374 -0.14341 0.23784 -0.14156 0.23419 -0.13486 C 0.23315 -0.13301 0.23281 -0.13046 0.23176 -0.12861 C 0.22812 -0.1219 0.22222 -0.11658 0.2177 -0.11126 C 0.21388 -0.10663 0.20885 -0.09646 0.20364 -0.09414 C 0.19965 -0.08905 0.19687 -0.08489 0.19183 -0.08165 C 0.18176 -0.06824 0.17013 -0.05736 0.16006 -0.04395 C 0.1552 -0.03747 0.15138 -0.02775 0.14478 -0.02521 C 0.14097 -0.02012 0.13715 -0.0185 0.13298 -0.01411 C 0.12343 -0.00439 0.12395 -0.00393 0.11058 -0.00161 C 0.09027 0.00787 0.06458 0.00394 0.04478 0.00463 C 0.03228 0.00417 0.01961 0.00556 0.00711 0.00301 C 0.00381 0.00232 -0.00105 -0.00485 -0.00105 -0.00485 C -0.00383 -0.00994 -0.0106 -0.01896 -0.0106 -0.01896 C -0.01025 -0.02382 -0.01077 -0.04533 -0.00348 -0.03146 C -0.00244 -0.02128 -6.11111E-006 -0.01017 -6.11111E-006 -2.29008E-006 E">
                                      <p:cBhvr>
                                        <p:cTn id="17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1000" fill="hold"/>
                                        <p:tgtEl>
                                          <p:spTgt spid="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500"/>
                            </p:stCondLst>
                            <p:childTnLst>
                              <p:par>
                                <p:cTn id="2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" dur="2000" fill="hold"/>
                                        <p:tgtEl>
                                          <p:spTgt spid="45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500"/>
                            </p:stCondLst>
                            <p:childTnLst>
                              <p:par>
                                <p:cTn id="2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2000" fill="hold"/>
                                        <p:tgtEl>
                                          <p:spTgt spid="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20749E-006 L 0.25 -1.20749E-006 E">
                                      <p:cBhvr>
                                        <p:cTn id="30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7500"/>
                            </p:stCondLst>
                            <p:childTnLst>
                              <p:par>
                                <p:cTn id="3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8000"/>
                            </p:stCondLst>
                            <p:childTnLst>
                              <p:par>
                                <p:cTn id="4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3000"/>
                            </p:stCondLst>
                            <p:childTnLst>
                              <p:par>
                                <p:cTn id="4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13 0.00416 C 0.0658 0.00416 0.12187 0.0787 0.12187 0.1706 C 0.12187 0.26273 0.0658 0.33727 -0.00313 0.33727 C -0.07205 0.33727 -0.12813 0.26273 -0.12813 0.1706 C -0.12813 0.0787 -0.07205 0.00416 -0.00313 0.00416 Z">
                                      <p:cBhvr>
                                        <p:cTn id="49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" dur="2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1 0.125 0.16655 C 0.125 0.25849 0.069 0.3331 0 0.3331 C -0.069 0.3331 -0.125 0.25849 -0.125 0.16655 C -0.125 0.07461 -0.069 0 0 0 Z">
                                      <p:cBhvr>
                                        <p:cTn id="58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5000"/>
                            </p:stCondLst>
                            <p:childTnLst>
                              <p:par>
                                <p:cTn id="62" nodeType="afterEffect" fill="hold" presetClass="exit" presetID="2" presetSubtype="4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3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8500"/>
                            </p:stCondLst>
                            <p:childTnLst>
                              <p:par>
                                <p:cTn id="6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3500"/>
                            </p:stCondLst>
                            <p:childTnLst>
                              <p:par>
                                <p:cTn id="72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" dur="3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3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6500"/>
                            </p:stCondLst>
                            <p:childTnLst>
                              <p:par>
                                <p:cTn id="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7500"/>
                            </p:stCondLst>
                            <p:childTnLst>
                              <p:par>
                                <p:cTn id="94" nodeType="afterEffect" fill="hold" presetClass="exit" presetID="2" presetSubtype="6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5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0500"/>
                            </p:stCondLst>
                            <p:childTnLst>
                              <p:par>
                                <p:cTn id="9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2" dur="2000" fill="hold"/>
                                        <p:tgtEl>
                                          <p:spTgt spid="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2500"/>
                            </p:stCondLst>
                            <p:childTnLst>
                              <p:par>
                                <p:cTn id="10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7" dur="2000" fill="hold"/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34500"/>
                            </p:stCondLst>
                            <p:childTnLst>
                              <p:par>
                                <p:cTn id="109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0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5000"/>
                            </p:stCondLst>
                            <p:childTnLst>
                              <p:par>
                                <p:cTn id="114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2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8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7000"/>
                            </p:stCondLst>
                            <p:childTnLst>
                              <p:par>
                                <p:cTn id="125" nodeType="afterEffect" fill="hold" presetClass="exit" presetID="4" presetSubtype="16">
                                  <p:stCondLst>
                                    <p:cond delay="100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4" presetSubtype="16">
                                  <p:stCondLst>
                                    <p:cond delay="200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9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39500"/>
                            </p:stCondLst>
                            <p:childTnLst>
                              <p:par>
                                <p:cTn id="132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43500"/>
                            </p:stCondLst>
                            <p:childTnLst>
                              <p:par>
                                <p:cTn id="141" nodeType="afterEffect" fill="hold" presetClass="exit" presetID="2" presetSubtype="1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2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2" presetSubtype="4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6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La ropa de la primavera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 primavera es caliente. Los gatos disfrutan la primaver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666880" y="2057400"/>
            <a:ext cx="3810240" cy="3800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Ropa para mujeres de la primavera.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60004" t="-1747" r="20003" b="0"/>
          <a:stretch/>
        </p:blipFill>
        <p:spPr>
          <a:xfrm>
            <a:off x="1295280" y="1371600"/>
            <a:ext cx="1143000" cy="44197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429000" y="18288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men lleva </a:t>
            </a:r>
            <a:r>
              <a:rPr b="1" lang="en-US" sz="1800" spc="-1" strike="noStrike">
                <a:solidFill>
                  <a:srgbClr val="ffe701"/>
                </a:solidFill>
                <a:latin typeface="Arial"/>
              </a:rPr>
              <a:t>una fald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naranjada, </a:t>
            </a:r>
            <a:r>
              <a:rPr b="1" lang="en-US" sz="1800" spc="-1" strike="noStrike">
                <a:solidFill>
                  <a:srgbClr val="ffe701"/>
                </a:solidFill>
                <a:latin typeface="Arial"/>
              </a:rPr>
              <a:t>el cintur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blanco, y </a:t>
            </a:r>
            <a:r>
              <a:rPr b="1" lang="en-US" sz="1800" spc="-1" strike="noStrike">
                <a:solidFill>
                  <a:srgbClr val="ffe701"/>
                </a:solidFill>
                <a:latin typeface="Arial"/>
              </a:rPr>
              <a:t>la camiset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e lana gri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rcRect l="20800" t="1863" r="40802" b="1163"/>
          <a:stretch/>
        </p:blipFill>
        <p:spPr>
          <a:xfrm>
            <a:off x="3200400" y="1447920"/>
            <a:ext cx="1828800" cy="396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715000" y="2590920"/>
            <a:ext cx="19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sa lleva </a:t>
            </a:r>
            <a:r>
              <a:rPr b="1" lang="en-US" sz="1800" spc="-1" strike="noStrike">
                <a:solidFill>
                  <a:srgbClr val="ffe701"/>
                </a:solidFill>
                <a:latin typeface="Arial"/>
              </a:rPr>
              <a:t>la camis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marilla, y </a:t>
            </a:r>
            <a:r>
              <a:rPr b="1" lang="en-US" sz="1800" spc="-1" strike="noStrike">
                <a:solidFill>
                  <a:srgbClr val="ffe701"/>
                </a:solidFill>
                <a:latin typeface="Arial"/>
              </a:rPr>
              <a:t>una fald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blanc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xit" presetID="2" presetSubtype="4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4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2" presetSubtype="4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8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500"/>
                            </p:stCondLst>
                            <p:childTnLst>
                              <p:par>
                                <p:cTn id="16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Ropa para hombres de la primavera.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26838" t="0" r="17078" b="0"/>
          <a:stretch/>
        </p:blipFill>
        <p:spPr>
          <a:xfrm>
            <a:off x="1143000" y="2819520"/>
            <a:ext cx="1752480" cy="38098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429000" y="2590920"/>
            <a:ext cx="2590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rtez lleva </a:t>
            </a:r>
            <a:r>
              <a:rPr b="1" lang="en-US" sz="1800" spc="-1" strike="noStrike">
                <a:solidFill>
                  <a:srgbClr val="ffe701"/>
                </a:solidFill>
                <a:latin typeface="Arial"/>
              </a:rPr>
              <a:t>el sombrer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beige, </a:t>
            </a:r>
            <a:r>
              <a:rPr b="1" lang="en-US" sz="1800" spc="-1" strike="noStrike">
                <a:solidFill>
                  <a:srgbClr val="ffe701"/>
                </a:solidFill>
                <a:latin typeface="Arial"/>
              </a:rPr>
              <a:t>el cinturo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 color marron, </a:t>
            </a:r>
            <a:r>
              <a:rPr b="1" lang="en-US" sz="1800" spc="-1" strike="noStrike">
                <a:solidFill>
                  <a:srgbClr val="ffe701"/>
                </a:solidFill>
                <a:latin typeface="Arial"/>
              </a:rPr>
              <a:t>los pantalon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e algodon grises, y la camiset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xit" presetID="5" presetSubtype="10">
                                  <p:stCondLst>
                                    <p:cond delay="5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5" presetSubtype="10">
                                  <p:stCondLst>
                                    <p:cond delay="5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500"/>
                            </p:stCondLst>
                            <p:childTnLst>
                              <p:par>
                                <p:cTn id="181" nodeType="afterEffect" fill="hold" presetClass="exit" presetID="4" presetSubtype="16">
                                  <p:stCondLst>
                                    <p:cond delay="300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4" presetSubtype="16">
                                  <p:stCondLst>
                                    <p:cond delay="300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La ropa de otoño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>
            <a:lum contrast="28000"/>
          </a:blip>
          <a:stretch/>
        </p:blipFill>
        <p:spPr>
          <a:xfrm>
            <a:off x="1343160" y="1276200"/>
            <a:ext cx="6457680" cy="43056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295280" y="601992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ejandro lleva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el chalec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naranja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066680" y="304920"/>
            <a:ext cx="6705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a ropa de otoño necesita ser caliente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5354" t="0" r="17473" b="0"/>
          <a:stretch/>
        </p:blipFill>
        <p:spPr>
          <a:xfrm>
            <a:off x="762120" y="1600200"/>
            <a:ext cx="2666880" cy="46483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114800" y="1828800"/>
            <a:ext cx="1295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ejandra lleva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el gorr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beige,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los guant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e color marron,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la camisill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e seda, y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una cap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bei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La ropa de verano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3714480" cy="45244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267080" y="2057400"/>
            <a:ext cx="358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landa lleva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un vestid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 algodon sin mangas, y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un cintur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rosa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9" nodeType="afterEffect" fill="hold" presetClass="emph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indefinite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1" dur="indefinite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2" dur="indefinite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opa para animales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3313080" cy="38862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800600" y="1981080"/>
            <a:ext cx="1905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los lleva </a:t>
            </a:r>
            <a:r>
              <a:rPr b="1" lang="en-US" sz="2400" spc="-1" strike="noStrike">
                <a:solidFill>
                  <a:srgbClr val="00b000"/>
                </a:solidFill>
                <a:latin typeface="Arial"/>
              </a:rPr>
              <a:t>los majon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zules</a:t>
            </a:r>
            <a:r>
              <a:rPr b="1" lang="en-US" sz="2400" spc="-1" strike="noStrike">
                <a:solidFill>
                  <a:srgbClr val="00b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1" lang="en-US" sz="2400" spc="-1" strike="noStrike">
                <a:solidFill>
                  <a:srgbClr val="00b000"/>
                </a:solidFill>
                <a:latin typeface="Arial"/>
              </a:rPr>
              <a:t> un par de ten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8:02:15Z</dcterms:created>
  <dc:creator>navarroant</dc:creator>
  <dc:description/>
  <dc:language>en-US</dc:language>
  <cp:lastModifiedBy>Peter L. Navarro</cp:lastModifiedBy>
  <dcterms:modified xsi:type="dcterms:W3CDTF">2011-12-19T03:07:16Z</dcterms:modified>
  <cp:revision>54</cp:revision>
  <dc:subject/>
  <dc:title>Slide 1</dc:title>
</cp:coreProperties>
</file>